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975-C2FE-4D19-B545-331E7888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D7D-13B3-4433-86A7-189D2DE7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3F5-50C0-48F3-8A35-9EFB7C7A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D00-7371-49D5-AE10-6903FE12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33CB-D134-4F7F-A0AB-11C59421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251D-2041-4139-8146-BD3A3627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3406-6DD3-4BD5-AB2C-F79C7945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03EE-E6DF-4E2B-987B-343B3ACF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89DA-6F5A-4D24-A48B-6C74F6D2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46C9-975D-4A2F-913F-8D73936B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032F-74C8-49F1-A096-61C977A1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CCD-ED17-463E-A961-18A50010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0E52-3DD4-4581-A004-1028E644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A191-888F-43E1-860A-268E8C0A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501E-4466-40A0-AEB9-82E507FD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194F-B4C3-4DFE-9907-D00B60BD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179C-2DC5-4189-88B7-C843BFA0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EA1-FD96-4DF1-AB7B-559AE99B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82A-61FF-4365-BE48-3355DC4D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7FF-CECE-4E8E-BBBC-10B016FD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D15-3D53-4E9A-808D-46E091FF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751-34C5-4077-B519-B85C9704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A84-A423-461E-9E0E-829FDDF0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B5C-B3A6-46B8-997C-1D89B882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F860-762F-4869-8BD8-2D94BCA0F42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BE37-73A9-45D6-A7A2-9A47F771650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стория возникновения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роб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Мои рисунки\анимашки\abstrakt_walls\banner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 rot="757800">
            <a:off x="6768360" y="1328760"/>
            <a:ext cx="150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Calibri"/>
              </a:rPr>
              <a:t>3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3286080" y="4286160"/>
            <a:ext cx="164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99"/>
                </a:solidFill>
                <a:latin typeface="Calibri"/>
                <a:ea typeface="Arial"/>
              </a:rPr>
              <a:t>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 rot="20092200">
            <a:off x="1018080" y="2062080"/>
            <a:ext cx="182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9,6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 rot="564600">
            <a:off x="6420240" y="3800520"/>
            <a:ext cx="19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0,0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4714920" y="542916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олнили учащиеся 6 класс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ксин Руслан, Жеронкин Егор, Плехов Влад, Куликова Яна, Ракина Татья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Рим"/>
          <p:cNvPicPr/>
          <p:nvPr/>
        </p:nvPicPr>
        <p:blipFill>
          <a:blip r:embed="rId1"/>
          <a:stretch/>
        </p:blipFill>
        <p:spPr>
          <a:xfrm>
            <a:off x="4356000" y="177336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3"/>
          <p:cNvSpPr txBox="1"/>
          <p:nvPr/>
        </p:nvSpPr>
        <p:spPr>
          <a:xfrm>
            <a:off x="2484360" y="18900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ревний Р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79280" y="1341360"/>
            <a:ext cx="410544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есная система дробей была в Древнем Риме. Она основывалась на делении на 12 долей единицы веса, которая называлась асс. Двенадцатую долю асса называли унцией. А путь, время и другие величины сравнивали с наглядной вещью - весом. Например, римлянин мог сказать, что он прошел семь унций пути или прочел пять унций книги. При этом, конечно, речь не шла о взвешивании пути или книги. Имелось в виду, что пройдено 7/12 пути или прочтено 5/12 книг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-за того что в двенадцатеричной системе нет дробей со знаменателями 10 или 100, римляне затруднялись делить на 10, 100 и т. д. При делении 1001 асса на 100 один римский математик сначала получил 10 ассов, потом раздробил асе на унции и т. д. Но от остатка он не избавился. Чтобы не иметь дела с такими вычислениями, римляне стали использовать проц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как слова "на сто" звучали по-латыни "про центум", то сотую часть и стали называть процен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dr"/>
          <p:cNvPicPr/>
          <p:nvPr/>
        </p:nvPicPr>
        <p:blipFill>
          <a:blip r:embed="rId1"/>
          <a:stretch/>
        </p:blipFill>
        <p:spPr>
          <a:xfrm>
            <a:off x="108000" y="476280"/>
            <a:ext cx="4859280" cy="793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Рисунок4"/>
          <p:cNvPicPr/>
          <p:nvPr/>
        </p:nvPicPr>
        <p:blipFill>
          <a:blip r:embed="rId2"/>
          <a:stretch/>
        </p:blipFill>
        <p:spPr>
          <a:xfrm>
            <a:off x="0" y="1557360"/>
            <a:ext cx="4680000" cy="4246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5076720" y="260280"/>
            <a:ext cx="3888000" cy="606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греческих сочинениях по математике дробей не встречалось. Греческие ученые считали, что математика должна заниматься только целыми числами. Возиться с дробями они предоставляли купцам, ремесленникам, а также астрономам, землемерам, механикам и другому "черному люду". Но старая пословица гласит: "Гони природу в дверь - она влетит в окно". Поэтому и в строго научные сочинения греков дроби проникали "с заднего хода". Кроме арифметики и геометрии, в греческую науку входила музыка. Музыкой греки называли учение о гармонии. Это учение опиралось на ту часть нашей арифметики, в которой говорится об отношениях и пропорциях. Греки знали: чем длиннее натянутая струна, тем ниже получается звук, который она издает, а короткая струна издает высокий звук. Но у всякого музыкального инструмента не одна, а несколько струн. Для того чтобы все струны при игре звучали "согласно", приятно для слуха, длины звучащих частей их должны быть в определенном отношении. Поэтому учение об отношениях и дробях использовалось в греческой теории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shiva"/>
          <p:cNvPicPr/>
          <p:nvPr/>
        </p:nvPicPr>
        <p:blipFill>
          <a:blip r:embed="rId1"/>
          <a:stretch/>
        </p:blipFill>
        <p:spPr>
          <a:xfrm>
            <a:off x="2484360" y="1125360"/>
            <a:ext cx="3781440" cy="453708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2987640" y="333360"/>
            <a:ext cx="2735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нд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84360" y="5877000"/>
            <a:ext cx="7632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ременную систему записи дробей с числителем и знаменателем создали в Индии. Только там писали знаменатель сверху, а числитель - снизу и не писали дробной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абская письм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71680" y="6143760"/>
            <a:ext cx="8072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ывать дроби в точности, как сейчас, стали араб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:\Documents and Settings\Admin\Рабочий стол\иикто Денис\не удавшийся проект(((\arabskiy_big.jpg"/>
          <p:cNvPicPr/>
          <p:nvPr/>
        </p:nvPicPr>
        <p:blipFill>
          <a:blip r:embed="rId1"/>
          <a:stretch/>
        </p:blipFill>
        <p:spPr>
          <a:xfrm>
            <a:off x="1643040" y="1257480"/>
            <a:ext cx="56293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езультате нашего исследования мы выяснили, что дроби возникли не как результат деления целых чисел. Они возникли в процессе изменения, как определенные части некоторых определенных ме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Мои рисунки\анимашки\abstrakt_walls\banner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3" descr=""/>
          <p:cNvPicPr/>
          <p:nvPr/>
        </p:nvPicPr>
        <p:blipFill>
          <a:blip r:embed="rId2"/>
          <a:stretch/>
        </p:blipFill>
        <p:spPr>
          <a:xfrm>
            <a:off x="781200" y="396720"/>
            <a:ext cx="7869240" cy="26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rticle015_05s"/>
          <p:cNvPicPr/>
          <p:nvPr/>
        </p:nvPicPr>
        <p:blipFill>
          <a:blip r:embed="rId1"/>
          <a:stretch/>
        </p:blipFill>
        <p:spPr>
          <a:xfrm>
            <a:off x="6643800" y="1000080"/>
            <a:ext cx="2160360" cy="302436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 rot="339000">
            <a:off x="2700000" y="115560"/>
            <a:ext cx="4032360" cy="12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85840" y="4357800"/>
            <a:ext cx="8569080" cy="22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Египтяне все дроби старались записать как суммы долей, то есть дробей вида 1/n. Например, вместо  8/15 они писали 1/3 + 1/5. Единственным  исключением  была дробь 2/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папирусе Ахмеса есть задач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"Разделить 7  хлебов между 8 людьми". Если резать каждый хлеб на 8 частей,  придется  провести  49 разрезов.  А по-египетски эта задача решалась так. Дробь 7/8 записывали в виде долей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/2 + 1/4 + 1/8. Значит, каждому человеку надо дать полхлеба, четверть хлеба и восьмушку хлеба; поэтому четыре хлеба разрезаем пополам, два хлеба - на 4 части и один хлеб - на 8 долей, после чего каждому даем его ча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1433520" cy="3046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1252"/>
          <p:cNvPicPr/>
          <p:nvPr/>
        </p:nvPicPr>
        <p:blipFill>
          <a:blip r:embed="rId3"/>
          <a:stretch/>
        </p:blipFill>
        <p:spPr>
          <a:xfrm>
            <a:off x="2714760" y="2857680"/>
            <a:ext cx="2779560" cy="912600"/>
          </a:xfrm>
          <a:prstGeom prst="rect">
            <a:avLst/>
          </a:prstGeom>
          <a:ln w="9360">
            <a:solidFill>
              <a:srgbClr val="632523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4" name="Прямоугольник 8"/>
          <p:cNvSpPr/>
          <p:nvPr/>
        </p:nvSpPr>
        <p:spPr>
          <a:xfrm>
            <a:off x="2725560" y="3857760"/>
            <a:ext cx="27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/5           1/23         1/1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евнеегипетский папир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Рисунок2"/>
          <p:cNvPicPr/>
          <p:nvPr/>
        </p:nvPicPr>
        <p:blipFill>
          <a:blip r:embed="rId1"/>
          <a:stretch/>
        </p:blipFill>
        <p:spPr>
          <a:xfrm>
            <a:off x="1143000" y="2000160"/>
            <a:ext cx="671184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2268360" y="450864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42960" y="1214280"/>
            <a:ext cx="78487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 и некоторые другие дроби встречаются в древнейших дошедших до нас математических текстах, составленных более 5000 лет тому назад, - древнеегипетских папирусах и вавилонских клинописных таблич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вилонская табли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вавилонская табличка"/>
          <p:cNvPicPr/>
          <p:nvPr/>
        </p:nvPicPr>
        <p:blipFill>
          <a:blip r:embed="rId1"/>
          <a:stretch/>
        </p:blipFill>
        <p:spPr>
          <a:xfrm>
            <a:off x="1116000" y="1484280"/>
            <a:ext cx="3206880" cy="4321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788000" y="1773360"/>
            <a:ext cx="316872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у египтян, и у вавилонян были специальные обозначения для дробей 1/3 и 2/3, не совпадающие с обозначениями для других дробей. Египтяне все дроби старались записать как суммы долей, т.е. дробей вида 1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Единственным исключением была дробь 2/3. например, вместо 8/15 они писали 1/3+1/5. Иногда это бывало удоб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атематический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апирус Ринда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писанный египетским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исцом Ахмесом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papirus_rind1"/>
          <p:cNvPicPr/>
          <p:nvPr/>
        </p:nvPicPr>
        <p:blipFill>
          <a:blip r:embed="rId1"/>
          <a:stretch/>
        </p:blipFill>
        <p:spPr>
          <a:xfrm>
            <a:off x="539640" y="1557360"/>
            <a:ext cx="4897440" cy="27399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539640" y="4508640"/>
            <a:ext cx="5113440" cy="17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использовались дроби в Древнем Египте, позволила нам узнать расшифровка папирусного свитка, найденного в Луксоре в 1858 г. Генрихом Риндом. Сейчас этот свиток находится в Британском музее в Лондоне. Папирус Ринда был написан писцом по имени Ахмес примерно в 1650 г. до нашей эры. Это математическая рукопись, составленная учителем для своих учеников, готовившихся стать придворными писц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940360" y="2060640"/>
            <a:ext cx="2879640" cy="286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апирусе есть задача: разделить семь хлебов между восемью людьми. Если резать каждый хлеб на 8 частей, придётся сделать 49 разрезов. А по–египетски эта задача решалась так. Дробь 7/8 записывали в виде долей: ½+1/4+1/8. Теперь ясно, что надо 4 хлеба разрезать пополам, 2 хлеба на 4 части и только один хлеб – на 8 частей (всего 17 разрезов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вилон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вавилон"/>
          <p:cNvPicPr/>
          <p:nvPr/>
        </p:nvPicPr>
        <p:blipFill>
          <a:blip r:embed="rId1"/>
          <a:stretch/>
        </p:blipFill>
        <p:spPr>
          <a:xfrm>
            <a:off x="250920" y="907920"/>
            <a:ext cx="3589200" cy="4824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4140360" y="907920"/>
            <a:ext cx="4751280" cy="54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идесятеричными дробями, унаследованными от Вавилона, пользовались греческие и арабские математики и астрономы. Система счисления в Вавилоне была шестидесятиричной – каждая единица следующего разряда была в 60 раз больше предыдущей. Мы и сейчас пользуемся такими дробями в обозначениях времени и величин углов. Вместо слов «шестидесятые доли», «три тысячи шестисотые доли» говорили короче: «первые малые доли», «вторые малые доли». От этого и произошли наши слова «минута» (по латыни «меньшая») и «секунда» (по латыни «вторая»). Так что вавилонский способ обозначения дробей сохранил своё значение до сих пор. Но было неудобно работать над натуральными числами, записанными в десятичной системе, и дробями, записанными в шестидесятеричной. А работать с обыкновенными дробями было совсем уж плохо - попробуйте, например, сложить или умножить дроб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лландский математик и инженер Симон Стев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07"/>
          <p:cNvPicPr/>
          <p:nvPr/>
        </p:nvPicPr>
        <p:blipFill>
          <a:blip r:embed="rId1"/>
          <a:stretch/>
        </p:blipFill>
        <p:spPr>
          <a:xfrm>
            <a:off x="3059280" y="1773360"/>
            <a:ext cx="2757240" cy="3600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187280" y="5661000"/>
            <a:ext cx="71298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тому голландский математик Симон Стевин предложил в 1585 году перейти к десятичным дробям. Сначала их писали весьма сложно, но постепенно перешли к современной запис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ЭВМ"/>
          <p:cNvPicPr/>
          <p:nvPr/>
        </p:nvPicPr>
        <p:blipFill>
          <a:blip r:embed="rId1"/>
          <a:stretch/>
        </p:blipFill>
        <p:spPr>
          <a:xfrm>
            <a:off x="395280" y="1268280"/>
            <a:ext cx="3960720" cy="31179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468360" y="4797360"/>
            <a:ext cx="8209080" cy="11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йчас в ЭВМ используют двоичные дроби. В двоичной системе счисления единица каждого следующего разряда вдвое больше единицы предыдущего разряда. Это позволяет при записи чисел пользоваться лишь двумя цифрами: 0 и 1. Например, запись 100101 означает число 1*25+0*24+0*23+1*22+0*2+1, т.е. число 37. Хотя и получается более длинная запись, но нужно всего две цифр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:\Documents and Settings\Admin\Рабочий стол\иикто Денис\не удавшийся проект(((\ix.jpeg"/>
          <p:cNvPicPr/>
          <p:nvPr/>
        </p:nvPicPr>
        <p:blipFill>
          <a:blip r:embed="rId2"/>
          <a:stretch/>
        </p:blipFill>
        <p:spPr>
          <a:xfrm>
            <a:off x="4643280" y="1285920"/>
            <a:ext cx="4214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3"/>
          <p:cNvPicPr/>
          <p:nvPr/>
        </p:nvPicPr>
        <p:blipFill>
          <a:blip r:embed="rId1"/>
          <a:stretch/>
        </p:blipFill>
        <p:spPr>
          <a:xfrm>
            <a:off x="5651640" y="1413000"/>
            <a:ext cx="2914560" cy="3600360"/>
          </a:xfrm>
          <a:prstGeom prst="rect">
            <a:avLst/>
          </a:prstGeom>
          <a:ln w="0">
            <a:noFill/>
          </a:ln>
        </p:spPr>
      </p:pic>
      <p:sp>
        <p:nvSpPr>
          <p:cNvPr id="117" name="WordArt 4"/>
          <p:cNvSpPr txBox="1"/>
          <p:nvPr/>
        </p:nvSpPr>
        <p:spPr>
          <a:xfrm>
            <a:off x="2000160" y="1071720"/>
            <a:ext cx="540072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91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Arial"/>
              </a:rPr>
              <a:t>Древняя Русь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1643040"/>
            <a:ext cx="310356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пытно, что двоичными дробями пользовались, по сути дела, в Древней Руси, где были такие дроби, как половина, четь, пол-чети, пол-пол-чет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4:11:09Z</dcterms:created>
  <dc:creator>Югова</dc:creator>
  <dc:description/>
  <dc:language>en-US</dc:language>
  <cp:lastModifiedBy>Admin</cp:lastModifiedBy>
  <dcterms:modified xsi:type="dcterms:W3CDTF">2011-05-18T10:14:03Z</dcterms:modified>
  <cp:revision>15</cp:revision>
  <dc:subject/>
  <dc:title>Слайд 1</dc:title>
</cp:coreProperties>
</file>